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399B-01D0-4FE6-8E68-4A1731DD3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A51E-A4E6-450E-AB9F-17DA75CF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B24F-2CF5-4B24-AFB8-498555709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C0DD-8766-4209-9915-64C8BF996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20E7-ACAB-40A7-83B4-F099072C5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F22A-A988-4C77-AA84-ADA5F676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AC5A-7095-4314-8A9E-B0DA76EF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F57E-751D-46B3-9AE7-FA2AE591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0B83-A8C2-4644-82BC-39EF4C30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24C6-A080-4C28-92DB-6F51322A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3A27-BE87-4F25-BF99-2AF20A77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291E-E13B-422B-A5EF-F16AD933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7D4B-0E16-4840-B367-32796CFB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8D5B-858B-4C69-9E80-C7C42DAA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60DF-453B-465D-88C4-8BA1FB2F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8ABE-BCF5-4F6A-A572-D87D18311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9B76-67EF-4CA6-9E6A-5D696B76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6BED-E187-42B2-AD4E-BB53C197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F41F-1DC4-48F1-AFC7-A862C197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A005-A80C-46CF-8BE5-2A4590A6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5781-6B60-4AF1-9E67-F4785CF9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4181-4FD6-41A9-A525-1A494ADF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75C2-9CEB-4A10-B3F9-62BD3BDE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E34B-C418-4ADE-AB78-FE0C837D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BEE2-3032-4738-80A5-07DA6C308EE7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E114-4A92-42A2-A305-524D87ACA026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176"/>
                </a:solidFill>
                <a:latin typeface="Arial"/>
              </a:rPr>
              <a:t>TEFL 1 – The world of English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619280" y="1773360"/>
            <a:ext cx="619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A. The place of English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English is not the language with the largest number of native or first language speakers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Salomi Papadima-Sophocleo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800D-8A9D-4AB2-A1D4-5EFD4725C1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176"/>
                </a:solidFill>
                <a:latin typeface="Arial"/>
              </a:rPr>
              <a:t>TEFL – The world of English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The place of English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A2 How English got ther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383ad"/>
                </a:solidFill>
                <a:latin typeface="Arial"/>
              </a:rPr>
              <a:t>A colonial histor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383ad"/>
                </a:solidFill>
                <a:latin typeface="Arial"/>
              </a:rPr>
              <a:t>Economic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383ad"/>
                </a:solidFill>
                <a:latin typeface="Arial"/>
              </a:rPr>
              <a:t>Tra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383ad"/>
                </a:solidFill>
                <a:latin typeface="Arial"/>
              </a:rPr>
              <a:t>Information exchang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383ad"/>
                </a:solidFill>
                <a:latin typeface="Arial"/>
              </a:rPr>
              <a:t>Popular cultur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Salomi Papadima-Sophocleo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20A2-02B7-4D9F-8C07-2C76CC18F3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176"/>
                </a:solidFill>
                <a:latin typeface="Arial"/>
              </a:rPr>
              <a:t>TEFL – The world of English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The place of English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A3 Where English fit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Battle for a place among other languag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dubbed film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Internet growth of other languages (54% EN 1999 dropping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Battle with local languag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Linguistic and cultural imperialism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Salomi Papadima-Sophocleo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891C-4788-43D4-A417-767ED9AB9A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176"/>
                </a:solidFill>
                <a:latin typeface="Arial"/>
              </a:rPr>
              <a:t>TEFL – The world of English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The place of English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A4 The future of English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What happens as more and more people appropriate it for their own use?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Will it split into varieties that become less mutually intelligible?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Will it continue to march over the globe crushing all in its path?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Will it be the only language left?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Salomi Papadima-Sophocleo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F77C-9C63-480A-9019-3D3B222839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176"/>
                </a:solidFill>
                <a:latin typeface="Arial"/>
              </a:rPr>
              <a:t>TEFL – The world of English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The place of English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A4 The future of English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383ad"/>
                </a:solidFill>
                <a:latin typeface="Arial"/>
              </a:rPr>
              <a:t>Graddol (1997) future possibiliti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383ad"/>
                </a:solidFill>
                <a:latin typeface="Arial"/>
              </a:rPr>
              <a:t>Hispanic as a language community is the fastest-growing in the USA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383ad"/>
                </a:solidFill>
                <a:latin typeface="Arial"/>
              </a:rPr>
              <a:t>Internet and the WWW: 80% English in 1990s to drop around 40% by 2010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Salomi Papadima-Sophocleo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19AD-4822-4E1D-98D7-ED22B65F16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176"/>
                </a:solidFill>
                <a:latin typeface="Arial"/>
              </a:rPr>
              <a:t>TEFL – The world of English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B.</a:t>
            </a: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Varieties of English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B1</a:t>
            </a: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Three circl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Is English just ONE ENGLISH or has it got many forms, depending on who speaks or writes it and where they do this? (difference in pronunciation, vocabulary, and grammar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Salomi Papadima-Sophocleo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D017-A38A-47B0-9E8A-78451FAA0B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176"/>
                </a:solidFill>
                <a:latin typeface="Arial"/>
              </a:rPr>
              <a:t>TEFL – The world of English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B.</a:t>
            </a: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Varieties of English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B1</a:t>
            </a: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Three circl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067280" y="3952800"/>
            <a:ext cx="79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3645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Outer Circl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627280" y="3141720"/>
            <a:ext cx="3240000" cy="2519280"/>
          </a:xfrm>
          <a:prstGeom prst="ellipse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492360" y="3213000"/>
            <a:ext cx="17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383ad"/>
                </a:solidFill>
                <a:latin typeface="Times New Roman"/>
              </a:rPr>
              <a:t>Expanding Circle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276720" y="3645000"/>
            <a:ext cx="1944720" cy="1657080"/>
          </a:xfrm>
          <a:prstGeom prst="donut">
            <a:avLst>
              <a:gd name="adj" fmla="val 25000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64000" y="3716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383ad"/>
                </a:solidFill>
                <a:latin typeface="Times New Roman"/>
              </a:rPr>
              <a:t>Outer Circle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851280" y="4149720"/>
            <a:ext cx="10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Times New Roman"/>
              </a:rPr>
              <a:t>Inner Circl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148360" y="3213000"/>
            <a:ext cx="1224000" cy="4320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859280" y="4221000"/>
            <a:ext cx="1584360" cy="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0" y="4508640"/>
            <a:ext cx="1584360" cy="86508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588000" y="3789360"/>
            <a:ext cx="1944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383ad"/>
                </a:solidFill>
                <a:latin typeface="Times New Roman"/>
              </a:rPr>
              <a:t>e.g. India, Singapore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383ad"/>
                </a:solidFill>
                <a:latin typeface="Times New Roman"/>
              </a:rPr>
              <a:t>150-300 million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659640" y="2781360"/>
            <a:ext cx="1727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383ad"/>
                </a:solidFill>
                <a:latin typeface="Times New Roman"/>
              </a:rPr>
              <a:t>e.g. China, Russia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383ad"/>
                </a:solidFill>
                <a:latin typeface="Times New Roman"/>
              </a:rPr>
              <a:t>100-1000 million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300720" y="5084640"/>
            <a:ext cx="1727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383ad"/>
                </a:solidFill>
                <a:latin typeface="Times New Roman"/>
              </a:rPr>
              <a:t>e.g. USA, UK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383ad"/>
                </a:solidFill>
                <a:latin typeface="Times New Roman"/>
              </a:rPr>
              <a:t>320-380 million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Salomi Papadima-Sophocleo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659C-5406-4DAA-AB9D-579D7FB37A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176"/>
                </a:solidFill>
                <a:latin typeface="Arial"/>
              </a:rPr>
              <a:t>TEFL – The world of English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B.</a:t>
            </a: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Varieties of English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B1</a:t>
            </a: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Three circl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ENGLISHES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British? USA? Australian? South African? Canadian? Sri Lankan? Nigerian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Salomi Papadima-Sophocleo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E45C-5B9F-42EF-A7ED-749D007208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176"/>
                </a:solidFill>
                <a:latin typeface="Arial"/>
              </a:rPr>
              <a:t>TEFL – The world of English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B.</a:t>
            </a: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Varieties of English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B1</a:t>
            </a: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Three circl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British, which British?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British Isles, London, Scotland, Ireland, Yorkshire, etc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Examples: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Londoner: get a </a:t>
            </a:r>
            <a:r>
              <a:rPr b="0" i="1" lang="en-GB" sz="2800" spc="-1" strike="noStrike">
                <a:solidFill>
                  <a:srgbClr val="8383ad"/>
                </a:solidFill>
                <a:latin typeface="Arial"/>
              </a:rPr>
              <a:t>take-away</a:t>
            </a: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 meal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Scottish person: order a </a:t>
            </a:r>
            <a:r>
              <a:rPr b="0" i="1" lang="en-GB" sz="2800" spc="-1" strike="noStrike">
                <a:solidFill>
                  <a:srgbClr val="8383ad"/>
                </a:solidFill>
                <a:latin typeface="Arial"/>
              </a:rPr>
              <a:t>carry-out</a:t>
            </a: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Salomi Papadima-Sophocleo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440C-ECA8-41F9-ABD0-09268BA238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176"/>
                </a:solidFill>
                <a:latin typeface="Arial"/>
              </a:rPr>
              <a:t>TEFL – The world of English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B.</a:t>
            </a: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Varieties of English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B1</a:t>
            </a: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Three circl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American English, which American English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Australian English, which Australian English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Salomi Papadima-Sophocleo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1CF4-FC9F-4C34-9C60-ACE6E87A10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176"/>
                </a:solidFill>
                <a:latin typeface="Arial"/>
              </a:rPr>
              <a:t>TEFL – The world of English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B.</a:t>
            </a: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Varieties of English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B1</a:t>
            </a: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Three circl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Factors determining type of English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Geographic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Reg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Social clas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Ethnic grouping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Sex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Salomi Papadima-Sophocleo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D28C-A7E3-48BA-966B-7348C181A9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176"/>
                </a:solidFill>
                <a:latin typeface="Arial"/>
              </a:rPr>
              <a:t>TEFL 1 – The world of English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A. The place of English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383ad"/>
                </a:solidFill>
                <a:latin typeface="Arial"/>
              </a:rPr>
              <a:t>English is a </a:t>
            </a:r>
            <a:r>
              <a:rPr b="0" i="1" lang="en-GB" sz="3200" spc="-1" strike="noStrike">
                <a:solidFill>
                  <a:srgbClr val="8383ad"/>
                </a:solidFill>
                <a:latin typeface="Arial"/>
              </a:rPr>
              <a:t>lingua franca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383ad"/>
                </a:solidFill>
                <a:latin typeface="Arial"/>
              </a:rPr>
              <a:t>Definition - </a:t>
            </a:r>
            <a:r>
              <a:rPr b="0" i="1" lang="en-GB" sz="3200" spc="-1" strike="noStrike">
                <a:solidFill>
                  <a:srgbClr val="8383ad"/>
                </a:solidFill>
                <a:latin typeface="Arial"/>
              </a:rPr>
              <a:t>Lingua franca</a:t>
            </a:r>
            <a:r>
              <a:rPr b="0" lang="en-GB" sz="3200" spc="-1" strike="noStrike">
                <a:solidFill>
                  <a:srgbClr val="8383ad"/>
                </a:solidFill>
                <a:latin typeface="Arial"/>
              </a:rPr>
              <a:t>: a language widely adopted for communication between two speakers whose native languages are different from each other’s and where one or both speakers are using it as an L2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Salomi Papadima-Sophocleo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B2AD-CA1C-431B-A056-26064F9234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176"/>
                </a:solidFill>
                <a:latin typeface="Arial"/>
              </a:rPr>
              <a:t>TEFL – The world of English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B.</a:t>
            </a: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Varieties of English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B2 Appropriate models of English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Which English to teach?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Factors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383ad"/>
                </a:solidFill>
                <a:latin typeface="Arial"/>
              </a:rPr>
              <a:t>Work with the variety that best reflects the teacher’s own language use, always provided that this will be understood by most other English speakers in the world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383ad"/>
                </a:solidFill>
                <a:latin typeface="Arial"/>
              </a:rPr>
              <a:t>Expose students to others as wel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383ad"/>
                </a:solidFill>
                <a:latin typeface="Arial"/>
              </a:rPr>
              <a:t>Consider students’ needs (what the students are most likely to come into contact with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383ad"/>
                </a:solidFill>
                <a:latin typeface="Arial"/>
              </a:rPr>
              <a:t>Consider resource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Salomi Papadima-Sophocleo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DC13-A572-49CA-BEA7-41577A3BF3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176"/>
                </a:solidFill>
                <a:latin typeface="Arial"/>
              </a:rPr>
              <a:t>TEFL – The world of English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B.</a:t>
            </a: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Varieties of English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B3</a:t>
            </a: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General or Specific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Genera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383ad"/>
                </a:solidFill>
                <a:latin typeface="Arial"/>
              </a:rPr>
              <a:t>All-purpose language: different language skills, topics from a range of sources, basing their selection of content more on student interest and engagement.  Communicate on a general social level and to cope with the normal range of texts which educated language users experience outside their professional lives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383ad"/>
                </a:solidFill>
                <a:latin typeface="Arial"/>
              </a:rPr>
              <a:t>Decision based – when we do not know how, why or when students will need the language in the future; give them language with the broadest range of use possible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Salomi Papadima-Sophocleo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9853-F54E-498D-8449-45F7CA6EF2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176"/>
                </a:solidFill>
                <a:latin typeface="Arial"/>
              </a:rPr>
              <a:t>TEFL – The world of English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B.</a:t>
            </a: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Varieties of English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B1</a:t>
            </a: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Three circl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Specific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ESP (English for Specific Purpose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EAP (English for Academic Purposes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EST (English for Science and Technology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Business English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Other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Salomi Papadima-Sophocleo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43BA-CF0A-4D49-8B73-0D308DD52B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176"/>
                </a:solidFill>
                <a:latin typeface="Arial"/>
              </a:rPr>
              <a:t>TEFL 1 – The world of English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A. The place of English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383ad"/>
                </a:solidFill>
                <a:latin typeface="Arial"/>
              </a:rPr>
              <a:t>Lingua franca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383ad"/>
                </a:solidFill>
                <a:latin typeface="Arial"/>
              </a:rPr>
              <a:t>In Ancient Times in the western world: Ancient Greek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383ad"/>
                </a:solidFill>
                <a:latin typeface="Arial"/>
              </a:rPr>
              <a:t>In Middle Ages in Europe:  Lati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Salomi Papadima-Sophocleo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34C6-2A7A-435A-BFAD-5FD5B66901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176"/>
                </a:solidFill>
                <a:latin typeface="Arial"/>
              </a:rPr>
              <a:t>TEFL 1 – The world of English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A. The place of English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383ad"/>
                </a:solidFill>
                <a:latin typeface="Arial"/>
              </a:rPr>
              <a:t>English is one of the main languages of International communicatio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96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383ad"/>
                </a:solidFill>
                <a:latin typeface="Arial"/>
              </a:rPr>
              <a:t>Even people who are not speakers of English often know words such as:  </a:t>
            </a:r>
            <a:r>
              <a:rPr b="0" i="1" lang="en-GB" sz="2400" spc="-1" strike="noStrike">
                <a:solidFill>
                  <a:srgbClr val="8383ad"/>
                </a:solidFill>
                <a:latin typeface="Arial"/>
              </a:rPr>
              <a:t>bank, chocolate, computer, hamburger, hospital, hot dog, hotel, piano, radio, restaurant, taxi, telephone, television, university </a:t>
            </a:r>
            <a:r>
              <a:rPr b="0" lang="en-GB" sz="2400" spc="-1" strike="noStrike">
                <a:solidFill>
                  <a:srgbClr val="8383ad"/>
                </a:solidFill>
                <a:latin typeface="Arial"/>
              </a:rPr>
              <a:t>and </a:t>
            </a:r>
            <a:r>
              <a:rPr b="0" i="1" lang="en-GB" sz="2400" spc="-1" strike="noStrike">
                <a:solidFill>
                  <a:srgbClr val="8383ad"/>
                </a:solidFill>
                <a:latin typeface="Arial"/>
              </a:rPr>
              <a:t>walkman.</a:t>
            </a:r>
            <a:r>
              <a:rPr b="0" lang="en-GB" sz="2400" spc="-1" strike="noStrike">
                <a:solidFill>
                  <a:srgbClr val="8383ad"/>
                </a:solidFill>
                <a:latin typeface="Arial"/>
              </a:rPr>
              <a:t>  Many of these words have themselves been borrowed by English from other languages of course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Salomi Papadima-Sophocleo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622F-6D54-40CB-90AD-7D07A79419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176"/>
                </a:solidFill>
                <a:latin typeface="Arial"/>
              </a:rPr>
              <a:t>TEFL 1 – The world of English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1280" y="227628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The place of English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A1 The numbers gam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383ad"/>
                </a:solidFill>
                <a:latin typeface="Arial"/>
              </a:rPr>
              <a:t>English: L1 or L2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Salomi Papadima-Sophocleo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BF78-3BF9-4FE7-AF54-986CCF2270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176"/>
                </a:solidFill>
                <a:latin typeface="Arial"/>
              </a:rPr>
              <a:t>TEFL – The world of English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763280" y="2060640"/>
            <a:ext cx="5614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The place of English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383ad"/>
                </a:solidFill>
                <a:latin typeface="Arial"/>
              </a:rPr>
              <a:t>A1 The numbers gam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383ad"/>
                </a:solidFill>
                <a:latin typeface="Arial"/>
              </a:rPr>
              <a:t>Bray Kachry (1985):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8383ad"/>
                </a:solidFill>
                <a:latin typeface="Arial"/>
              </a:rPr>
              <a:t>320-380 million: L1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8383ad"/>
                </a:solidFill>
                <a:latin typeface="Arial"/>
              </a:rPr>
              <a:t>250-350 million: L2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Salomi Papadima-Sophocleo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0D88-64FB-41DA-A273-7EA62E7280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176"/>
                </a:solidFill>
                <a:latin typeface="Arial"/>
              </a:rPr>
              <a:t>TEFL – The world of English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The place of English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A1 The numbers gam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David Crystal (1995 &amp;1997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In 75 territories where English ‘holds a special place’ (not only Britain, the USA, Australia, Canada, etc. but also places such as Hong Kong, India, Malaysia and Nigeria)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277 million L1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98 million L2 (350 million if L2 speakers in e.g. Canada or Australia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Salomi Papadima-Sophocleo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0017-9746-4EF9-8C97-23D92F4918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176"/>
                </a:solidFill>
                <a:latin typeface="Arial"/>
              </a:rPr>
              <a:t>TEFL – The world of English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The place of English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A1 The numbers gam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Between 600-700 million people in the world speak English (L1 or L2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B. Kachru 1983 prediction: “</a:t>
            </a:r>
            <a:r>
              <a:rPr b="0" i="1" lang="en-GB" sz="2800" spc="-1" strike="noStrike">
                <a:solidFill>
                  <a:srgbClr val="8383ad"/>
                </a:solidFill>
                <a:latin typeface="Arial"/>
              </a:rPr>
              <a:t>… If the spread of English continues at the current rate, by the year 2000 its non-native speakers will outnumber its native speakers”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Salomi Papadima-Sophocleo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B639-C0BA-4D8F-B08D-830681DB06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176"/>
                </a:solidFill>
                <a:latin typeface="Arial"/>
              </a:rPr>
              <a:t>TEFL – The world of English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83ad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The place of English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383ad"/>
                </a:solidFill>
                <a:latin typeface="Arial"/>
              </a:rPr>
              <a:t>A1 The numbers gam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383ad"/>
                </a:solidFill>
                <a:latin typeface="Arial"/>
              </a:rPr>
              <a:t>Even if English will not remain dominant among world languages, it will remain a vital linguistic tool for many business people, academics, tourists and citizens of the world who wish to communicate easily across nationalities for many years to come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. Salomi Papadima-Sophocleou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23A8-2155-4A9F-8D7B-C2F991AE16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07:56:09Z</dcterms:created>
  <dc:creator>sal</dc:creator>
  <dc:description/>
  <dc:language>en-US</dc:language>
  <cp:lastModifiedBy>CUT LC Language Instructors</cp:lastModifiedBy>
  <dcterms:modified xsi:type="dcterms:W3CDTF">2009-09-29T13:56:09Z</dcterms:modified>
  <cp:revision>18</cp:revision>
  <dc:subject/>
  <dc:title>TEFL – The world of English</dc:title>
</cp:coreProperties>
</file>